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FA96-B5BD-4EDA-8469-E742FE60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1B7-D4A9-4385-9FF8-57B786AE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828-7194-40C4-AB3B-BA394898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B88-D402-486A-AE9F-BAF9D838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843-D85F-4AD0-AA74-57B2874C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6800-63BC-43FB-9A1C-782A7EB2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42E1-2C22-43F9-9151-4063F5F8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097-3D58-4B32-9687-1AE317A7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7A0-645C-4392-BAFC-AC101951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6F4C-B7AE-4CBA-BC34-DB8FB548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FF8-83FD-4C93-8821-78F4BCA6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595-D765-4AEF-8A12-F60CCBC8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2D2F-B6A5-43AF-9A23-D0F3BD15B3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2628" t="0" r="12703" b="0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3276720" y="1341360"/>
            <a:ext cx="432108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ломе __ 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val 7"/>
          <p:cNvSpPr/>
          <p:nvPr/>
        </p:nvSpPr>
        <p:spPr>
          <a:xfrm>
            <a:off x="468360" y="98100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8"/>
          <p:cNvSpPr/>
          <p:nvPr/>
        </p:nvSpPr>
        <p:spPr>
          <a:xfrm>
            <a:off x="1908000" y="98100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9122040" y="1341360"/>
            <a:ext cx="7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203640" y="2852640"/>
            <a:ext cx="4248000" cy="62712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езветре___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3276720" y="4437000"/>
            <a:ext cx="4248000" cy="6271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ЛОВЯ___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16"/>
          <p:cNvSpPr/>
          <p:nvPr/>
        </p:nvSpPr>
        <p:spPr>
          <a:xfrm>
            <a:off x="1835280" y="2565360"/>
            <a:ext cx="914400" cy="9144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17"/>
          <p:cNvSpPr/>
          <p:nvPr/>
        </p:nvSpPr>
        <p:spPr>
          <a:xfrm>
            <a:off x="468360" y="2565360"/>
            <a:ext cx="914400" cy="9144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val 18"/>
          <p:cNvSpPr/>
          <p:nvPr/>
        </p:nvSpPr>
        <p:spPr>
          <a:xfrm>
            <a:off x="1979640" y="4365720"/>
            <a:ext cx="914400" cy="9144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19"/>
          <p:cNvSpPr/>
          <p:nvPr/>
        </p:nvSpPr>
        <p:spPr>
          <a:xfrm>
            <a:off x="395280" y="4365720"/>
            <a:ext cx="914400" cy="9144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9848520" y="2627280"/>
            <a:ext cx="6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9448920" y="4572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9343800" y="4356000"/>
            <a:ext cx="6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0023 L -0.40313 0.01018 E">
                                      <p:cBhvr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78 0.00115 L -0.47326 0.03399 E">
                                      <p:cBhvr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0.00115 L -0.43368 0.01272 E">
                                      <p:cBhvr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995640" y="1125360"/>
            <a:ext cx="3600720" cy="719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ЖА __ 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3"/>
          <p:cNvSpPr/>
          <p:nvPr/>
        </p:nvSpPr>
        <p:spPr>
          <a:xfrm>
            <a:off x="755640" y="105264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4"/>
          <p:cNvSpPr/>
          <p:nvPr/>
        </p:nvSpPr>
        <p:spPr>
          <a:xfrm>
            <a:off x="2195640" y="105264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9533880" y="112536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067280" y="2781360"/>
            <a:ext cx="3960720" cy="71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СТВЕ___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7"/>
          <p:cNvSpPr/>
          <p:nvPr/>
        </p:nvSpPr>
        <p:spPr>
          <a:xfrm>
            <a:off x="2195640" y="26370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val 8"/>
          <p:cNvSpPr/>
          <p:nvPr/>
        </p:nvSpPr>
        <p:spPr>
          <a:xfrm>
            <a:off x="755640" y="26370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9"/>
          <p:cNvSpPr/>
          <p:nvPr/>
        </p:nvSpPr>
        <p:spPr>
          <a:xfrm>
            <a:off x="755640" y="4869000"/>
            <a:ext cx="914400" cy="9144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10"/>
          <p:cNvSpPr/>
          <p:nvPr/>
        </p:nvSpPr>
        <p:spPr>
          <a:xfrm>
            <a:off x="2195640" y="4869000"/>
            <a:ext cx="914400" cy="9144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3995640" y="5084640"/>
            <a:ext cx="4249800" cy="648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ВОЛЮЦИО___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9580320" y="2781360"/>
            <a:ext cx="6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9364320" y="5013360"/>
            <a:ext cx="6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399 0.01017 L -0.40399 0.01017 E">
                                      <p:cBhvr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299 0.01041 L -0.35729 0.01041 E">
                                      <p:cBhvr>
                                        <p:cTn id="6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198 0.01064 L -0.28542 0.01041 E">
                                      <p:cBhvr>
                                        <p:cTn id="7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3929040" y="1125360"/>
            <a:ext cx="3667320" cy="719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ЕРЕБРЯ __ 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3"/>
          <p:cNvSpPr/>
          <p:nvPr/>
        </p:nvSpPr>
        <p:spPr>
          <a:xfrm>
            <a:off x="755640" y="105264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4"/>
          <p:cNvSpPr/>
          <p:nvPr/>
        </p:nvSpPr>
        <p:spPr>
          <a:xfrm>
            <a:off x="2195640" y="105264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533880" y="112536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4067280" y="2781360"/>
            <a:ext cx="3960720" cy="71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ДЛЕ___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7"/>
          <p:cNvSpPr/>
          <p:nvPr/>
        </p:nvSpPr>
        <p:spPr>
          <a:xfrm>
            <a:off x="2195640" y="26370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l 8"/>
          <p:cNvSpPr/>
          <p:nvPr/>
        </p:nvSpPr>
        <p:spPr>
          <a:xfrm>
            <a:off x="755640" y="26370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9"/>
          <p:cNvSpPr/>
          <p:nvPr/>
        </p:nvSpPr>
        <p:spPr>
          <a:xfrm>
            <a:off x="755640" y="4869000"/>
            <a:ext cx="914400" cy="9144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10"/>
          <p:cNvSpPr/>
          <p:nvPr/>
        </p:nvSpPr>
        <p:spPr>
          <a:xfrm>
            <a:off x="2195640" y="4869000"/>
            <a:ext cx="914400" cy="9144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3995640" y="5084640"/>
            <a:ext cx="4249800" cy="648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АДИЦИО___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9580320" y="2781360"/>
            <a:ext cx="6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9364320" y="5013360"/>
            <a:ext cx="6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618 0.01017 L -0.39618 0.01017 E">
                                      <p:cBhvr>
                                        <p:cTn id="9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861 0.01041 L -0.37292 0.01041 E">
                                      <p:cBhvr>
                                        <p:cTn id="10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198 0.01064 L -0.30208 0.01041 E">
                                      <p:cBhvr>
                                        <p:cTn id="11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2"/>
          <p:cNvSpPr/>
          <p:nvPr/>
        </p:nvSpPr>
        <p:spPr>
          <a:xfrm>
            <a:off x="500040" y="642960"/>
            <a:ext cx="914400" cy="9144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3"/>
          <p:cNvSpPr/>
          <p:nvPr/>
        </p:nvSpPr>
        <p:spPr>
          <a:xfrm>
            <a:off x="2000160" y="714240"/>
            <a:ext cx="914400" cy="9144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211640" y="765000"/>
            <a:ext cx="4535640" cy="72108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ТЕКЛЯ__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632520" y="900000"/>
            <a:ext cx="6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140360" y="2565360"/>
            <a:ext cx="4535280" cy="720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УСИ__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067280" y="4005360"/>
            <a:ext cx="4535280" cy="72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ЕТРЕ__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14"/>
          <p:cNvSpPr/>
          <p:nvPr/>
        </p:nvSpPr>
        <p:spPr>
          <a:xfrm>
            <a:off x="468360" y="2349360"/>
            <a:ext cx="914400" cy="9144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15"/>
          <p:cNvSpPr/>
          <p:nvPr/>
        </p:nvSpPr>
        <p:spPr>
          <a:xfrm>
            <a:off x="1908000" y="2349360"/>
            <a:ext cx="914400" cy="9144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16"/>
          <p:cNvSpPr/>
          <p:nvPr/>
        </p:nvSpPr>
        <p:spPr>
          <a:xfrm>
            <a:off x="468360" y="393372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7"/>
          <p:cNvSpPr/>
          <p:nvPr/>
        </p:nvSpPr>
        <p:spPr>
          <a:xfrm>
            <a:off x="1908000" y="393372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9613800" y="2627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9469440" y="3851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32 -0.00925 L -0.33142 -0.00925 E">
                                      <p:cBhvr>
                                        <p:cTn id="13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88714E-006 L -0.33889 0.00115 E">
                                      <p:cBhvr>
                                        <p:cTn id="14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76411E-006 L -0.33889 0.0222 E">
                                      <p:cBhvr>
                                        <p:cTn id="15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684360" y="692280"/>
            <a:ext cx="914400" cy="9144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124000" y="692280"/>
            <a:ext cx="914400" cy="9144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211640" y="907920"/>
            <a:ext cx="4535640" cy="720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имацио___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211640" y="2349360"/>
            <a:ext cx="4535640" cy="72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ля___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4140360" y="4005360"/>
            <a:ext cx="4535280" cy="7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сча___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7"/>
          <p:cNvSpPr/>
          <p:nvPr/>
        </p:nvSpPr>
        <p:spPr>
          <a:xfrm>
            <a:off x="2050920" y="220500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8"/>
          <p:cNvSpPr/>
          <p:nvPr/>
        </p:nvSpPr>
        <p:spPr>
          <a:xfrm>
            <a:off x="684360" y="227664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9"/>
          <p:cNvSpPr/>
          <p:nvPr/>
        </p:nvSpPr>
        <p:spPr>
          <a:xfrm>
            <a:off x="2050920" y="393372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10"/>
          <p:cNvSpPr/>
          <p:nvPr/>
        </p:nvSpPr>
        <p:spPr>
          <a:xfrm>
            <a:off x="611280" y="393372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9488160" y="900000"/>
            <a:ext cx="6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9613800" y="23400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9469440" y="399564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58557E-007 L -0.2842 0.00116 E">
                                      <p:cBhvr>
                                        <p:cTn id="16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17 0.02223 L -0.32517 0.02223 E">
                                      <p:cBhvr>
                                        <p:cTn id="18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469 0.0118 L -0.35469 0.0118 E">
                                      <p:cBhvr>
                                        <p:cTn id="19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46:20Z</dcterms:created>
  <dc:creator>1</dc:creator>
  <dc:description/>
  <dc:language>en-US</dc:language>
  <cp:lastModifiedBy>1</cp:lastModifiedBy>
  <dcterms:modified xsi:type="dcterms:W3CDTF">2017-01-10T12:22:06Z</dcterms:modified>
  <cp:revision>2</cp:revision>
  <dc:subject/>
  <dc:title>Слайд 1</dc:title>
</cp:coreProperties>
</file>